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991C-6562-4F8A-A44C-523A84C38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562F-64AE-4371-A13B-079C86B23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5687-F21F-4691-B60D-DE94E97D7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CDCF-CDEA-4485-A549-C4F0BB7B1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D432-AFC0-4286-B971-65277A2BD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C94F-9976-40C6-B552-64DB1E6B3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784D-5358-449A-8588-9F547B2E1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5390-1AD3-4B4C-996D-D8240A736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FBDB-C09B-4731-9CAA-836ED4C96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B18F-A245-48A9-9A4B-B133ADDC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30D9-3944-4061-B240-3617979E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B9EC-83F9-43B0-B76F-99F376BE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74839-BF45-4CE7-A78F-3CA020783640}" type="slidenum">
              <a:rPr b="0" lang="sr-Latn-C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Увод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масаж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898989"/>
                </a:solidFill>
                <a:latin typeface="Calibri"/>
              </a:rPr>
              <a:t>Doc. Dr T.Lukovi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рибор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масирањ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50920" y="1285560"/>
            <a:ext cx="738648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об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ветл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стра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опл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ветре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асаж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:2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x70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цм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x75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ц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редств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асаж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алк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азелин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љ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лековит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упстанц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збо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иктир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кив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асир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рајањ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ири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це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.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ољ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одат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(5/10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л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ака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уте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езив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рриге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ачк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љ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лек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цел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ел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0" y="214200"/>
            <a:ext cx="8001000" cy="66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Масерски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ст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7" descr=""/>
          <p:cNvPicPr/>
          <p:nvPr/>
        </p:nvPicPr>
        <p:blipFill>
          <a:blip r:embed="rId1"/>
          <a:stretch/>
        </p:blipFill>
        <p:spPr>
          <a:xfrm>
            <a:off x="581040" y="1600200"/>
            <a:ext cx="7981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7358040" cy="559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Средњи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физиолошки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оложај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рук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10" descr=""/>
          <p:cNvPicPr/>
          <p:nvPr/>
        </p:nvPicPr>
        <p:blipFill>
          <a:blip r:embed="rId1"/>
          <a:stretch/>
        </p:blipFill>
        <p:spPr>
          <a:xfrm>
            <a:off x="1827360" y="1600200"/>
            <a:ext cx="5489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Средњи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физиолошки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оложај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рук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1303200" y="1600200"/>
            <a:ext cx="6537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Средњи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физиолошки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оложај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ног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1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Средњи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физиолошки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оложај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ног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457200" y="1695600"/>
            <a:ext cx="8229600" cy="43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Врсте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масаж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63520" y="928440"/>
            <a:ext cx="7386480" cy="51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Према пореклу: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савремена и традиционална масажа. Савремена масажа је повезана са кинезитерапијом; данас се користи не само у терапијске, него и у профилактичке сврх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Према томе ко изводи масажу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, постоји самомасажа, код које се особа сама масира, или масажу изводи једна особа (терапеут) на другој особ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паратур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Врсте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масаже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рема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наме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едицинск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асаж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- класична мануелна масаж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- лимфна дренаж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- рефлексна масаж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(..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и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асаж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целог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ел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портск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асаж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зметичк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асаж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63520" y="571320"/>
            <a:ext cx="7386480" cy="55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екада се под појмом масажа подразумевало првенствено  коришћење енергије руку терапеута на телу пацијента, који је при том пасиван, тзв мануелна масаж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више од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75 потпуно различитих техника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је можемо сматрати масажом, које се изводе на р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личите начине:  мануелно, а неке апаратима (апаратурна масажа). Постоје технике масаже којеподразумевају пренос енергије са терапеута на пацијента некада и без директног контак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4200" y="285840"/>
            <a:ext cx="74772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Према начину извођења </a:t>
            </a:r>
            <a:br>
              <a:rPr sz="48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63520" y="713880"/>
            <a:ext cx="738648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Мануелну или ручну масажу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 изводи терапеут рукама користећи сопствену енергиј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А) класичне технике 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глађење,трљање, гњечење,лупкање и вибраци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Б) специјалне технике масаже 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ериостна, фасцијална, поткожна, кожна, сегментна масажа, акопресура, рефлексна масажа стопала, шијацу масажа, мануелна лимфна дренажа.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Опште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индиректно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дејство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масаж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0" y="1071720"/>
            <a:ext cx="7650000" cy="50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годност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пуштеност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опло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лака млитавост  и  замореност мишић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сихичк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угестивн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мирујућ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SY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улс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нојењ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брзан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исањ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ширењ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ени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ерапијски делује на нервозу,главобољу  несаниц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д преверемено рођене дец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као антистресогена терапиј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 терапији депресије, болова,стимулише имунитет..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-126000"/>
            <a:ext cx="7476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63520" y="642600"/>
            <a:ext cx="7386480" cy="54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д 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lzheimer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ове болести, депресије, фибромијалгије, пременструалних тегоба, стреса на послу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д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рчев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листовим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carpal tunel S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нервозе, главобоље и несаниц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лиминацију  мокраћом: мокраћне киселине, соли фосфора, нитрата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асажом се отклања умор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рж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г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асивним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дмарањ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филактичк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јств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ерапијски примењен доди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одир је саставни део живота сваког од нас.  Пружа осећај сигурности, задовољства и даје животну снагу. Додир је прво чуло које се развија. Преко њега упознајемо околину и стварамо однос са светом који нас окружуј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стваривање контакта са другим особама и светом који нас окружује, пријатан,  може бити и терапијско средс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а би имао терапијски ефекат, додир мора бити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науче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ришћење масаже везано је за историјске, верске и економске окол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када  је масажа чешће коришћена у појединим деловима света, у одређеним слојевима друштва, првенствено код особа које су имале неки здравствени пробл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63520" y="571320"/>
            <a:ext cx="7386480" cy="55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асажу су у почетку спроводили нешколовани људи који су емпиријски стицали знања од својих претходника,а унапређивана је кроз практичну примен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оком времена масажа се развијала првенствено као лекарска вештина, јер је за њено извођење потребно  познавање анатомије и физиолог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ид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еханотерап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ерапијск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имењен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оди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војствен је свим културама и временским епохам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ек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75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азличитих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ехн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Нази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63520" y="928440"/>
            <a:ext cx="7386480" cy="51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страживања самог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корена речи ,,масажа,,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сведоче да је реч о веома старој методи. Први пут је под овим именом у литератури помиње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1813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. године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Lepaqu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ssar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лат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)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њечи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ss 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рапск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итиска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ssag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фр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трљава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Content Placeholder 3" descr=""/>
          <p:cNvPicPr/>
          <p:nvPr/>
        </p:nvPicPr>
        <p:blipFill>
          <a:blip r:embed="rId1"/>
          <a:stretch/>
        </p:blipFill>
        <p:spPr>
          <a:xfrm>
            <a:off x="0" y="785880"/>
            <a:ext cx="7672320" cy="57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Масе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63520" y="857160"/>
            <a:ext cx="738648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драв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нажан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здржљив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ад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вом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дрављ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ндициј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Школован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прет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портис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пуша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гова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у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декватн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девен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чист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добн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с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кит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.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овор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ок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ад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мфизем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лућ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пуштањ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сног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рц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ирцхберг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1T13:12:48Z</dcterms:created>
  <dc:creator>korisnik</dc:creator>
  <dc:description/>
  <dc:language>en-US</dc:language>
  <cp:lastModifiedBy>Info</cp:lastModifiedBy>
  <dcterms:modified xsi:type="dcterms:W3CDTF">2018-08-13T20:19:39Z</dcterms:modified>
  <cp:revision>57</cp:revision>
  <dc:subject/>
  <dc:title>Uvod u masažu</dc:title>
</cp:coreProperties>
</file>